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3827-3B53-4275-B2B1-26A1D966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017F-5619-4F94-BD96-F587D561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912B-4EF1-41A1-9813-E76A9229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99F-F00E-40AD-BEAE-A52A1D8A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535-88D7-44B8-9E6D-B5202930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49C-42AF-4E62-95DF-91E10386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6EF0-82CA-480A-BC80-6BBEA544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F088-C3BC-46F0-8C20-509C0A16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D17-92F7-4260-BD5D-8D7417E0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502C-106D-4120-A896-ACCCADD4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9364-34C4-44DC-A578-44885E08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3EAA-3A80-4670-BD80-1019AD6A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83CE5-7291-4C05-9B79-A1D0631D41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480" y="985680"/>
            <a:ext cx="10080360" cy="57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480" y="860400"/>
            <a:ext cx="1008036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480" y="906480"/>
            <a:ext cx="10080360" cy="588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